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8FF-1AAC-481A-AEDE-629AADA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1A5-267D-4DE4-AB21-FC60928C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AFA-E600-4F40-ABC1-398D11AB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7A6-D0BD-478D-BEBA-10C6FA40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E721-5F30-4EE4-B2AE-EE2DB331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EA5E-CE59-459A-B8D2-C7F884D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906-A43B-44C6-989E-E739E1E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9157-CE5F-465D-B161-71F4DDBC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9E7-E4C1-4A50-923E-EA2D2EC1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5187-1D84-4284-8A22-C5E7CEA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9511-E9E5-436E-B6CE-F34785F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5EC-CFA1-4948-9952-8BDE54F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AED-50E6-4924-8488-555A75D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11E-CDDF-495D-8202-D7B4459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03DC-0ECB-46ED-A594-1E92289E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675D-FB41-45D1-B273-9FB325D5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91E-1452-4B99-A9D4-914029F4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0D2-B3D5-40D2-A5C4-8CC3C43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5FC-FEA6-4C69-A7B2-14E9DFA3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609-B3F8-421C-8895-8660AF6B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53B-470C-4D84-9E59-BE03E8D9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D01-0BCB-42B1-A08C-10D98D6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B80-512E-4D63-817B-A01D12C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6E0-38E0-49B3-BC1D-B217A4B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8809-22CA-4009-A22C-91E8559CC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B006-2866-4211-8D60-DECCB05243C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United States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ighest Court in the United States of Ame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125px-Seal_of_the_United_States_Supreme_Court"/>
          <p:cNvPicPr/>
          <p:nvPr/>
        </p:nvPicPr>
        <p:blipFill>
          <a:blip r:embed="rId1"/>
          <a:stretch/>
        </p:blipFill>
        <p:spPr>
          <a:xfrm>
            <a:off x="6477120" y="1447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ecu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executive branch can refuse to enforce the ruling of the Supreme Court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st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are nine justices on the Supreme Court. There is one chief justice and eight associate justic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rrent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Content Placeholder 3" descr="courtx-wide-community.jpg"/>
          <p:cNvPicPr/>
          <p:nvPr/>
        </p:nvPicPr>
        <p:blipFill>
          <a:blip r:embed="rId1"/>
          <a:stretch/>
        </p:blipFill>
        <p:spPr>
          <a:xfrm>
            <a:off x="1905120" y="22860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Chief Justice John Roberts (Appointed by President George W. Bush in 2005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4" descr="196px-Official_roberts_CJ"/>
          <p:cNvPicPr/>
          <p:nvPr/>
        </p:nvPicPr>
        <p:blipFill>
          <a:blip r:embed="rId1"/>
          <a:stretch/>
        </p:blipFill>
        <p:spPr>
          <a:xfrm>
            <a:off x="3200400" y="2819520"/>
            <a:ext cx="2489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onin Scalia (Appointed by President Reagan in 198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4" descr="194px-Antonin_Scalia%2C_SCOTUS_photo_portrait"/>
          <p:cNvPicPr/>
          <p:nvPr/>
        </p:nvPicPr>
        <p:blipFill>
          <a:blip r:embed="rId1"/>
          <a:stretch/>
        </p:blipFill>
        <p:spPr>
          <a:xfrm>
            <a:off x="3352680" y="228600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hony Kennedy (Appointed by President Reagan in 198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194px-Anthony_Kennedy_Official"/>
          <p:cNvPicPr/>
          <p:nvPr/>
        </p:nvPicPr>
        <p:blipFill>
          <a:blip r:embed="rId1"/>
          <a:stretch/>
        </p:blipFill>
        <p:spPr>
          <a:xfrm>
            <a:off x="327672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Clarence Thomas (Appointed by President George H.W. Bush in 199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4" descr="194px-Clarence_Thomas_official"/>
          <p:cNvPicPr/>
          <p:nvPr/>
        </p:nvPicPr>
        <p:blipFill>
          <a:blip r:embed="rId1"/>
          <a:stretch/>
        </p:blipFill>
        <p:spPr>
          <a:xfrm>
            <a:off x="3048120" y="24382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Ruth Bader Ginsburg (Appointed by President Clinton in 199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0" name="Picture 4" descr="194px-Ruth_Bader_Ginsburg%2C_SCOTUS_photo_portrait"/>
          <p:cNvPicPr/>
          <p:nvPr/>
        </p:nvPicPr>
        <p:blipFill>
          <a:blip r:embed="rId1"/>
          <a:stretch/>
        </p:blipFill>
        <p:spPr>
          <a:xfrm>
            <a:off x="327672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tephen Breyer (Appointed by President Clinton in 1994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4" descr="194px-Stephen_Breyer%2C_SCOTUS_photo_portrait"/>
          <p:cNvPicPr/>
          <p:nvPr/>
        </p:nvPicPr>
        <p:blipFill>
          <a:blip r:embed="rId1"/>
          <a:stretch/>
        </p:blipFill>
        <p:spPr>
          <a:xfrm>
            <a:off x="320040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amuel Alito (Appointed by President George W. Bush in 200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194px-010_alito"/>
          <p:cNvPicPr/>
          <p:nvPr/>
        </p:nvPicPr>
        <p:blipFill>
          <a:blip r:embed="rId1"/>
          <a:stretch/>
        </p:blipFill>
        <p:spPr>
          <a:xfrm>
            <a:off x="320040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the judicial branch of government headed by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mary function of the judicial branch is to interpret the Constitutionality of laws and other governmental ac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onia Sotomayor (Appointed by President Obama in 2009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Content Placeholder 4" descr="225px-Sonia_Sotomayor_in_SCOTUS_robe.jpg"/>
          <p:cNvPicPr/>
          <p:nvPr/>
        </p:nvPicPr>
        <p:blipFill>
          <a:blip r:embed="rId1"/>
          <a:stretch/>
        </p:blipFill>
        <p:spPr>
          <a:xfrm>
            <a:off x="2819520" y="22096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Elena Kagan (Appointed by President Obama in 2010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Content Placeholder 3" descr="225px-Elena_Kagan_SCOTUS_portrait.jpg"/>
          <p:cNvPicPr/>
          <p:nvPr/>
        </p:nvPicPr>
        <p:blipFill>
          <a:blip r:embed="rId1"/>
          <a:stretch/>
        </p:blipFill>
        <p:spPr>
          <a:xfrm>
            <a:off x="2743200" y="1828800"/>
            <a:ext cx="2857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cellaneous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are appointed by the President and approved by the Senat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serve for lif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ef justice receives $217,400 per year while the associate justices receive $208,100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15388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has both original and appellate jurisdic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is the final authority on the Constitution and the laws of the United State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0" y="2052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upreme Court has original jurisdiction in cases involving ambassadors, maritime issues, cases where the United States is a party, cases between two or more states, etc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cases are rarely heard by the Supreme Cour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llate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upreme Court receives over 6000 appeals cases per year. The Supreme Court actually hears around 150 of these cas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Appeals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Supreme Court to accept a case on appeal there must be a significant legal or Constitutional question that must be decid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ision of the Supreme Court can’t be appeal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power of the Supreme Court to review any federal or state law to see if it is in agreement with the Constitu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 Supreme Court finds a law to be unconstitutional it has the power to nullify the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nciple of judicial review was established in 1803 with the Supreme Court case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Marbury v. Madis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gisla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egislative branch can get around a ruling by changing a law so that it no longer conflicts with the Constit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the legislative branch can initiate the amendment process which would change the Constitution and U.S.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6:26:23Z</dcterms:created>
  <dc:creator>Sys Admin</dc:creator>
  <dc:description/>
  <dc:language>en-US</dc:language>
  <cp:lastModifiedBy>SysAdmin</cp:lastModifiedBy>
  <dcterms:modified xsi:type="dcterms:W3CDTF">2011-10-06T17:05:19Z</dcterms:modified>
  <cp:revision>36</cp:revision>
  <dc:subject/>
  <dc:title>The United States Supreme Court</dc:title>
</cp:coreProperties>
</file>